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E70-6A03-4E1A-91BF-DBA4C850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1DB-5F31-4019-914F-0E4B482E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8AD76-4187-4C4B-9E0D-41DC8A71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BCF49-620D-4E70-95B8-B231BB79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76CE0-DB21-4DF8-B0DB-281794C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EEA34-A20B-41A0-9FA5-32535D0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722F-6042-42F8-9221-879421E2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35C29-37A6-4855-A8D8-1F2DC71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2F435-0E4D-4CE9-9AE4-C9BCF92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01349-1B37-4E54-A2E4-CD331C4E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09663-C50D-402C-9509-05EAB6D4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E67DF-8980-4931-BABC-470AFF08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A38-23C5-43E2-A7B7-C1A9B131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9733A-095A-46A9-A184-23B944B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D1AFC-2335-417A-AD1B-A3CC375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BCB5F-9AA1-449F-A144-F74B640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9E270-4BAF-42D2-922F-2A8FD1C7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2DCC1-E212-4BEE-92F3-26F7210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D15DB-56E9-471E-8451-0B5AE80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1CF53-0047-4DC2-8C40-32958D86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283C9-4A8A-4AF1-8E7D-CD9D91DD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FC132-1CB6-4558-82B3-EE0EF095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D88DD-509A-4D77-9798-A5A1EBC7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6B4-88B6-4B69-8379-D9F466D6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12BA2-9B8D-4C2C-942C-FA71D716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753B-BBB7-461F-BBEC-94821426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5434-B2EF-43BF-AC88-E3DC4CE8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6DE68-A59B-41DA-9141-F11B3014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6C453-8277-41A1-9E2E-296B0DE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48325-18B8-404B-A102-4A6DA1EA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3A615-3E98-4B79-9CD7-F9C4BF6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06E26-48C1-42B3-8DFB-BC6283D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B1E39-5396-424E-B809-538BC93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E658-974D-4807-9FA1-5FD142B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91B8-CDAB-4C3C-9C83-A5816E64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9CDFE-51E3-42BC-AD8A-EA8B22D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EAEB6-B2E1-43F5-964C-14AC0D5B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3D4E5-57CA-4A88-9DA7-82E70A94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9E811-B0C2-46B5-8365-78FB584D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8552E-33CF-4B9B-A744-44376D3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89CD6-253F-42B0-AFE1-92D38FDB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7ED27-794C-4C4F-AE80-03482C61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81A62-9E04-43E5-A830-C385DFC4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F59D7-871F-41D1-BA58-61C927BA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3606F-48E9-4392-BA32-EB162029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7307-6DB9-4F8E-AE69-0DF1E9D6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04488-3DFE-4259-AEFE-08551B6C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DCA68-2D24-4C0E-8D5C-9E6AE46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EE168-DF4A-4A94-8196-0B5D0BCA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C0901-8930-4DE5-9F30-29075235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86BF9-77F5-4755-856A-B7BA613E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2FFF-F247-4672-8811-01E85D95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2FC4-ACCA-4425-B3BF-8A887E52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14E3-1532-4818-BC8F-0636482E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F8F-F49E-4F06-94AE-F029475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1450-F78B-4472-9BBD-C0EF6B2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25E-EC04-4952-AAE0-342047BC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3741-5BA2-493E-9028-D207FB0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2328-7559-46B6-B6A0-28A0629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29A-1149-49E5-85BF-7E74B574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17CE-EA18-4BA5-AD5B-334369FF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2D2-0C26-4594-973C-EDADDF5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DEB1-A4AE-44A6-8201-FEDC4AAB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D740-7522-4E76-B937-E4FEE38B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70D5-E994-47AC-9625-260F532F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8FAA-7E26-4DBB-B79D-04A76F8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C68E-16A0-4E4A-81AD-2A626BAB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E01-91E4-413E-8BC6-5968EB57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E736-40D1-401E-A514-BC6E94A8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1B15-FEEB-452B-8696-C621BF9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EC59-3D3D-4BC7-AED8-F04610D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049D-0407-4A0D-96B4-15AFABC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1E3E-AF62-4682-92A9-996B8954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CD97-8866-49CB-B176-426EB58B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BD32-6F18-4CA9-8321-17012A18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211D4-1E58-4F0B-B0FE-4567849D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C234-755A-4CF8-9FD1-7D2188C2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B635-0593-483A-9E0E-319A6E9C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2E8-5DBD-41B0-AF46-14AFFF43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8334A-E808-4A5C-BBD8-94D06DBC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D311-460F-4596-BDA3-40E5BDDA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B4D0-2D1A-4F82-8A02-0E085B3C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3BB1-417F-47A7-AAA6-7D0B63F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7506-42F8-42CC-A7FE-ECB4ED94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1FFF-1413-4DEF-96DD-E3523F64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BFF2-D634-4FAC-947C-FE6BE735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113C-B1B1-4A00-BB74-11AC48B8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E268-E0CC-43B9-9831-71B5639D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D7F1-95A8-4825-AAB4-5AC094FB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11C-2667-487E-84D0-AB81DEE3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978F-BD47-46E8-8DB3-4D2EDBDA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4B84-DF36-40C7-9C41-FA1427A4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9250A-44A4-4A2C-ABDC-02EAC3B0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B5D5-5451-4ED8-9267-DEFD836C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649C3-C11D-4064-BCD1-1C7FED5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38C28-2CCE-4E64-B0B8-2A84EDAE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42226-AC88-4283-A2B5-E177F30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1B09-6575-4A61-813D-CB4F271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9E551-E329-4311-A06B-850B440B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1BF7-69A8-4372-8B18-FDE80410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AA1-3F87-460C-8E45-B7179D35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1113-C6EF-4A07-91FB-D49392FC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8164-0A04-4252-A273-0857543C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C64D5-AB4F-4A93-9494-A40D054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F058-356D-4011-94B6-3BE4FDBA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AEB37-FB46-4600-8AEC-DD8A70E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40C2-4A6E-4D3C-B702-A35E2D3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DF7C7-E42A-4265-A301-5BF10DA8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CF46A-D46E-407B-9AA7-DC1B25E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ABD1-8BCE-4B56-9466-09D4BDAE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710F1-3C8D-44E8-AF82-90F8719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24E-1D4B-44F0-B55F-EFADC4E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1494-02EF-4CB1-9B10-D21BD7F9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5244A-A7E4-4DA1-B330-B490110D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A4A4-1CED-427A-BF5E-7CB2977C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498A-A0E8-4F44-B293-AD1DAB2D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BFD02-8E62-40D6-BCEB-FD1846E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1AA52-0447-4C42-946B-5941A8F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3390D-4637-4EFE-85B4-9049247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8834-5D7F-4663-988D-0B5D1758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E54F-D3F5-40D1-B8A7-34055657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92087-0699-49FE-AA81-3693D3C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DA6-A04C-4CA6-932E-39BB3E2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4F5E9-FB7F-4908-BECA-02167DC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E6BA-49B7-4C98-AF82-C9951906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DB574-C2F3-4EA4-96C6-CB78C094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B2D8A-760C-4F2D-9730-61623179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B9C0-4F13-437C-81A2-D3B69E6A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0D21-DE82-4394-9B56-5E981F04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A6085-5524-4C1A-8A2D-53CEFF29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4760F-521A-4131-904B-9EBB60B9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465A7-390D-437D-89C2-5719A9EC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2AEE7-71C7-42F0-BE0F-1D04D571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0C6-1BDE-41F2-9940-4777D75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C9D3-A14D-4B07-B31D-80590771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58120-A3DC-4982-9411-B69E408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25E1-79F9-4273-9E00-929DBE5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6A58-C12B-4D8B-9DE9-2C81080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F10C-1FF0-4BEA-9F41-E0C2952B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F0E68-24B6-4980-A9FD-0E604CE1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66712-BD34-4A02-AB09-2BCC1439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69E5C-AFE5-442A-92BF-FBEA2086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3349C-8013-4FA3-BD0E-380911EB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427BA-E2AC-4042-B52A-EE456FDD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3E54-D238-4A7C-BCC7-BD78F278087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EBFF-BADA-40D0-98CE-ECFBE46BB71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D6E9-9312-43AE-A77F-55022FC0FBF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5CC-49A4-4E92-80FF-66B14E5A541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3F04-2514-4550-8AF9-D2503F2BDA9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EC9-F3F7-4CFC-B525-CFE357385B7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451-8E0A-44CF-BBE0-E313849B828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66BB-0679-4574-9FFB-65D5B5CF438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84C-C395-40C8-8EBA-97AF74F3ABA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E53F-6043-4867-BD6A-560332ED260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46F-3AC8-4053-A008-225ECB59B78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13D-CE40-401B-B77F-9A23F6ADA56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5" descr="3161555-grande-immagine-di-un-suono-elettronico-sine-o-audio-onda.jpg"/>
          <p:cNvPicPr/>
          <p:nvPr/>
        </p:nvPicPr>
        <p:blipFill>
          <a:blip r:embed="rId1"/>
          <a:stretch/>
        </p:blipFill>
        <p:spPr>
          <a:xfrm>
            <a:off x="4067280" y="4581360"/>
            <a:ext cx="507672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6656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suono è una perturbazione longitudinale prodotta da un corpo che vibra con una certa frequ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corde vocali di una persona, le corde di una chitarra sono esempi di sorgenti sono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Rettangolo 4" descr=""/>
          <p:cNvPicPr/>
          <p:nvPr/>
        </p:nvPicPr>
        <p:blipFill>
          <a:blip r:embed="rId2"/>
          <a:stretch/>
        </p:blipFill>
        <p:spPr>
          <a:xfrm>
            <a:off x="1109520" y="158760"/>
            <a:ext cx="6742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Immagine 3" descr="eco.jpg"/>
          <p:cNvPicPr/>
          <p:nvPr/>
        </p:nvPicPr>
        <p:blipFill>
          <a:blip r:embed="rId1"/>
          <a:stretch/>
        </p:blipFill>
        <p:spPr>
          <a:xfrm>
            <a:off x="230040" y="333360"/>
            <a:ext cx="8663040" cy="61912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eco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è l’esempio più noto di riflessione di onde sonore.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’esempio più noto di riflessione di onde sono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Poiché la velocità del suono è costante,il tempo che impiega per andare e tornare dalla parete riflettente si calcola con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it-IT" sz="4000" spc="-1" strike="noStrike">
                <a:solidFill>
                  <a:srgbClr val="953735"/>
                </a:solidFill>
                <a:latin typeface="Comic Sans MS"/>
              </a:rPr>
              <a:t>t=2d/v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ove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d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è la distanza della paret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onde sonore possono essere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ess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attraverso un mezzo:per esempio in un appartamento il suono è trasmesso attraverso le pareti,i pavimenti,le por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3" name="Immagine 4" descr="trasmissione.jpg"/>
          <p:cNvPicPr/>
          <p:nvPr/>
        </p:nvPicPr>
        <p:blipFill>
          <a:blip r:embed="rId2"/>
          <a:stretch/>
        </p:blipFill>
        <p:spPr>
          <a:xfrm>
            <a:off x="4356000" y="3635280"/>
            <a:ext cx="3672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l suono arriva su un materiale che non possiede le caratteristiche di elasticità necessarie,non riesce a propagarsi e in questo caso prevale l’ assorbim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 materiali che si comportano in questo modo vengono detti “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Fonoassorbent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”(la moquette,la lana di vetro,il sughero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27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L’intensità di un suono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il rapporto tra la potenza acustica e l’aria della superficie stess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I=P/A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’unità di misura dell’intensità sonora è W/m al secondo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20242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si distinguono per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distingue i suoni bassi o gravi,da quelli alti o acuti. Essa dipende dalla frequenza dell’onda,cioè dalla frequenza di vibrazioni dalla sorgente: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 suoni grav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a basse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suoni acut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e alte,maggiore è la frequenza dell’onda più acuto è il suono che si percepis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 distingue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 suoni forti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da quelli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deboli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;essa è legata alla quantità di energia che giunge sull’orecchio e quindi all’ampiezza delle vibrazioni a cui sono soggetti gli strati d’aria in cui si propaga il suon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Il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,invece,è una caratteristica del suono legata alla forma dell’ ond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ue suoni possono avere la stessa intensità e la stessa altezza,ma timbro diverso:una tromba ha un timbro diverso da un violino,anche se stanno suonando la stessa not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e caratteristiche uditive variano da un individuo a una altro e cambiano anche con l’età. In generale i suoni di frequenza minore di 20Hz o superiori a 18Hz non sono percepiti dall’orecchio uman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che hanno frequenza inferiore a 20Hz sono dett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f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quelli che hanno frequenza superiore alla massima udibile sono gl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Ult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Quando una sorgente sonora e un osservatore si muovono l’uno rispetto all’altro,si verifica l’effetto Doppler:la frequenza che l’osservatore percepisce è diversa da quella che la sorgente emett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questo effetto si distinguono due casi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a sorgente si muove rispetto all’osservatore ferm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’osservatore si muove rispetto alla sorgente ferm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          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0" y="476280"/>
            <a:ext cx="9144000" cy="564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Una </a:t>
            </a:r>
            <a:r>
              <a:rPr b="1" lang="it-IT" sz="3200" spc="-1" strike="noStrike">
                <a:solidFill>
                  <a:srgbClr val="376092"/>
                </a:solidFill>
                <a:latin typeface="Comic Sans MS"/>
              </a:rPr>
              <a:t>sorgente sonora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un sistema in vibrazione. Le vibrazioni sono delle oscillazioni di ampiezza molto piccola, sono trasmesse all’aria e si propagano fino al nostro orecchio. La maggior parte dei mezzi materiali trasmette i suoni; nel vuoto invece il suono non si propaga e in alcuni mezzi materiali,gli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isolanti acustic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, il suono si propaga con difficoltà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6" name="Immagine 3" descr="isolante acustico.jpg"/>
          <p:cNvPicPr/>
          <p:nvPr/>
        </p:nvPicPr>
        <p:blipFill>
          <a:blip r:embed="rId1"/>
          <a:stretch/>
        </p:blipFill>
        <p:spPr>
          <a:xfrm>
            <a:off x="4716360" y="4437000"/>
            <a:ext cx="442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magine 3" descr="effetto doppler.jpg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Nel primo caso,supponiamo che la sorgente sonora si muova in linea retta,a velocità costante,avvicinandosi verso l’osservat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Le onde sonore emesse dalla sirena non sono concentriche,ma sono “schiacciate” nel senso del movimento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Viceversa,quando la sorgente si allontana,l’osservatore riceve una lunghezza d’onda maggiore e una frequenza min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Nel secondo caso possiamo dire che l’effetto si verifica anche quando la sorgente del suono rimane ferma e l’osservatore si allontana o si avvicina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egli si avvicina alla sorgente,la frequenza è maggiore della frequenza de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invece l’osservatore si allontana dalla sorgente la frequenza è minore di quella emessa da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olo 1" descr=""/>
          <p:cNvPicPr/>
          <p:nvPr/>
        </p:nvPicPr>
        <p:blipFill>
          <a:blip r:embed="rId1"/>
          <a:stretch/>
        </p:blipFill>
        <p:spPr>
          <a:xfrm>
            <a:off x="-6480" y="70164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All’energia emessa da una sorgente sonora si da il nome di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acustica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( o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sonor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Una caratteristica distintiva della sorgente che produce il suono è la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potenza acustic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 cioè l’energia che essa emette nel tempo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P=E/delta 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P=potenza acustica(w);E=energia(J);delta t=intervallo di tempo(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Titolo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339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Le principali caratteristiche di un onda sonora sono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FREQUEN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il numero d volte che il corpo oscilla in un secondo, e quindi anche il numero di onde generate in un secondo. Viene misurata in Hertz (Hz) e viene indicata con la lettera “F”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VELOCITA</a:t>
            </a:r>
            <a:r>
              <a:rPr b="0" lang="it-IT" sz="2700" spc="-1" strike="noStrike">
                <a:solidFill>
                  <a:srgbClr val="95b3d7"/>
                </a:solidFill>
                <a:latin typeface="Comic Sans MS"/>
              </a:rPr>
              <a:t>’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dipende dal materiale in cui si diffonde le onde e dalla temperatura. Viene misurata in metri al secondo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LUNGHEZZA D’OND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a distanza fra due creste successive, di solito misurata in metri o suoi sottomultipli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IL PERIODO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cioè il tempo che intercorre tra due vibrazioni successive ed è l’inverso della frequenza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’AMPIEZ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’unica grandezza slegata dal tempo e indica il massimo spostamento dall’asse orizzontale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Immagine 3" descr="il_suono.jpg"/>
          <p:cNvPicPr/>
          <p:nvPr/>
        </p:nvPicPr>
        <p:blipFill>
          <a:blip r:embed="rId1"/>
          <a:stretch/>
        </p:blipFill>
        <p:spPr>
          <a:xfrm>
            <a:off x="539640" y="907920"/>
            <a:ext cx="8113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719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onda del suono si propaga nell’aria. Durante la propagazione avviene una compressione dell’aria e poi una decompressione(con una diminuzione della pression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un mezzo omogeneo le onde sonore si propagano con una velocità costante, perciò la velocità del suono si calcola c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v=d/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Nell’aria è di circa 340m/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l suono si  propaga anche nel suono e nei liquidi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1268280"/>
            <a:ext cx="835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Quando un onda sonora incontra un mezzo materiale, si possono verificare tre fenomeni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RIFLE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I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ASSORBIMENTO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fenomeno della riflessione avviene quando l’onda sonora incontra un ostacolo e giocano un ruolo fondamentale le dimensioni dell’ostacolo stesso. Questo fenomeno è significativo solo se la dimensione dell’ostacolo è  maggiore rispetto alla lunghezza d’onda dell’onda sonora che incide su di esso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l’onda sonora incide in direzione perpendicolare alla superficie riflettente torna indietro nella stessa direzi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nvece la direzione di propagazione dell’onda incidente non coincide con la perpendicolare alla superficie riflettente,l’onda riflessa si propaga in una direzione che forma con la stessa perpendicolare un angolo uguale a quello di incid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a velocità dell’onda incidente è uguale a quella dell’onda riflessa,perché l’onda viaggia nello stesso mezz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7:02:16Z</dcterms:created>
  <dc:creator>Francesca</dc:creator>
  <dc:description/>
  <dc:language>en-US</dc:language>
  <cp:lastModifiedBy>Laura Polenta</cp:lastModifiedBy>
  <dcterms:modified xsi:type="dcterms:W3CDTF">2011-05-13T14:16:26Z</dcterms:modified>
  <cp:revision>27</cp:revision>
  <dc:subject/>
  <dc:title>Diapositiva 1</dc:title>
</cp:coreProperties>
</file>